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AF1-90CC-4F67-A44F-6DD8FE66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E21-B434-48B1-882A-F4866E45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7D7-78DD-4B96-8964-295BCF1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14D-109F-4C62-83A6-C7E39C1A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7A1-3F31-4AD1-A855-D724ED6D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02B-BA51-42C5-BDB0-F412E55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F5D-7293-455C-ACB8-CBE23588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706-470C-49AF-8B06-3BC386D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3E9-0F8A-4210-96C6-221FD2D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897-7DD7-4E76-B8C5-3187BF5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747-C8B7-4A48-B4B1-6A66A8A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8C9-029F-430B-B948-A8B778A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82F-30FD-4159-922D-DFC021D2D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nounced Generation Capa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343080"/>
          <a:ext cx="9144000" cy="65149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457200"/>
                <a:gridCol w="671400"/>
                <a:gridCol w="776160"/>
                <a:gridCol w="596880"/>
                <a:gridCol w="567000"/>
                <a:gridCol w="647640"/>
                <a:gridCol w="649080"/>
                <a:gridCol w="806760"/>
                <a:gridCol w="566640"/>
                <a:gridCol w="730080"/>
                <a:gridCol w="727200"/>
                <a:gridCol w="728640"/>
              </a:tblGrid>
              <a:tr h="57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of Test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-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UN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bient Temper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 at Start of Test 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sonal HSL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urce Plan HSL 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inute sustained 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L Reached and Sus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L Reached but not Sus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L not Reach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85 F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2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7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6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7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1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4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1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3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4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3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J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 F to 95 F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6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22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8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6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9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4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5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0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95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24/20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of Unannounced Generation Capability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219320"/>
          <a:ext cx="7924680" cy="1334880"/>
        </p:xfrm>
        <a:graphic>
          <a:graphicData uri="http://schemas.openxmlformats.org/drawingml/2006/table">
            <a:tbl>
              <a:tblPr/>
              <a:tblGrid>
                <a:gridCol w="1676160"/>
                <a:gridCol w="1600200"/>
                <a:gridCol w="2362320"/>
                <a:gridCol w="228600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ERAT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S T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L REACHED AND SUSTAIN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L NOT SUSTA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85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 F - 95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95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5:06:09Z</dcterms:created>
  <dc:creator>ssharma</dc:creator>
  <dc:description/>
  <dc:language>en-US</dc:language>
  <cp:lastModifiedBy>ssharma</cp:lastModifiedBy>
  <dcterms:modified xsi:type="dcterms:W3CDTF">2008-06-25T22:31:43Z</dcterms:modified>
  <cp:revision>10</cp:revision>
  <dc:subject/>
  <dc:title>Slide 1</dc:title>
</cp:coreProperties>
</file>